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7.jpeg" ContentType="image/jpeg"/>
  <Override PartName="/ppt/media/image10.gif" ContentType="image/gif"/>
  <Override PartName="/ppt/media/image34.jpeg" ContentType="image/jpeg"/>
  <Override PartName="/ppt/media/image41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D1D-A18C-4B73-B6C1-BCF9DAD6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E1D-9BBF-4D20-9217-0E921A67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B65-869C-4138-968C-D7FA1933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8A9-83D1-4234-9DA4-79BB2050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E9AF-2215-4535-AB8C-981BB180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8CD-0A82-4E8B-A2F8-C4ED8D78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B71-3B7A-45EC-A1E5-92A04D3C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C5CF-8F95-4535-A0BA-BED8A3E7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F44-7F96-4BDD-BD2E-4EDE5A8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1072-7E06-4D4E-8761-B6B1A34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7544-CA07-4361-B66A-7FE529A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8E7-CC6B-41EA-AF98-0156E04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6B50-F38F-482C-A378-41B1BD5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6CCC-058D-4CD6-A8B7-C92961F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8D4-76EF-4825-BE6E-85692FC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C142-A307-4BCE-8F5D-33193C3D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539C-C250-4463-A4F3-ACC0C1F1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CD2-6DC3-45D8-AC7C-1790A43D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143-E221-4C57-B0D1-1AA89AC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016-C478-48D8-8131-AE538D1E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5C6-3153-4F69-8470-92A2D4B2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B96-6FE8-4DDB-B986-ADEA44E8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FFF-F4D4-41AA-9B11-D7719933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848-C061-4603-B650-7045803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E7C6-7208-4ABB-8D10-C39AF75202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DFC-92D7-40CF-B18A-2CD1EACBE7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&#1087;&#1088;&#1072;&#1074;&#1072;.xml"/><Relationship Id="rId8" Type="http://schemas.openxmlformats.org/officeDocument/2006/relationships/slide" Target="slide.xm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28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3300"/>
                </a:solidFill>
                <a:latin typeface="Times New Roman"/>
              </a:rPr>
              <a:t>Уголовное</a:t>
            </a:r>
            <a:r>
              <a:rPr b="0" lang="ru-RU" sz="8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право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62728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ждый из нас - сын своих дел.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. Серван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055Суд во время Русской Правды"/>
          <p:cNvPicPr/>
          <p:nvPr/>
        </p:nvPicPr>
        <p:blipFill>
          <a:blip r:embed="rId1"/>
          <a:stretch/>
        </p:blipFill>
        <p:spPr>
          <a:xfrm>
            <a:off x="3676680" y="4221000"/>
            <a:ext cx="54673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2"/>
          <p:cNvGrpSpPr/>
          <p:nvPr/>
        </p:nvGrpSpPr>
        <p:grpSpPr>
          <a:xfrm>
            <a:off x="0" y="1268280"/>
            <a:ext cx="3132000" cy="5492880"/>
            <a:chOff x="0" y="1268280"/>
            <a:chExt cx="3132000" cy="5492880"/>
          </a:xfrm>
        </p:grpSpPr>
        <p:pic>
          <p:nvPicPr>
            <p:cNvPr id="156" name="Picture 5" descr="roth03Вывеска музея Уголовного права"/>
            <p:cNvPicPr/>
            <p:nvPr/>
          </p:nvPicPr>
          <p:blipFill>
            <a:blip r:embed="rId2"/>
            <a:stretch/>
          </p:blipFill>
          <p:spPr>
            <a:xfrm>
              <a:off x="0" y="1268280"/>
              <a:ext cx="3132000" cy="48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0" y="6180480"/>
              <a:ext cx="3132000" cy="580680"/>
            </a:xfrm>
            <a:prstGeom prst="rect">
              <a:avLst/>
            </a:prstGeom>
            <a:solidFill>
              <a:srgbClr val="dbbd7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Вывеска музе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Уголовного прав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8" name="nasha_sluzhba_i_opasna_i_trudna.mp3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16"/>
          <p:cNvPicPr/>
          <p:nvPr/>
        </p:nvPicPr>
        <p:blipFill>
          <a:blip r:embed="rId4"/>
          <a:stretch/>
        </p:blipFill>
        <p:spPr>
          <a:xfrm>
            <a:off x="7380360" y="119700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онятие и признаки преступле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73960" cy="208764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Отсутствие общественной опасности исключает возможность признания деяния преступлением (речь идет о малозначительных деяниях, действиях необходимой обороны и т.д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еступлением признается запрещенное уголовным законом общественно опасное деяние (действие или бездействие), причиняющее вред или создающее угрозу причинения вреда личности, обществу или государ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56000" y="3860640"/>
            <a:ext cx="6588000" cy="25282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Уголовная ответственность возникает с момента совершения лицом преступления, а прекращается либо по отбытии наказания (снятие или погашение судимости), либо в случае освобождения от уголовной ответственности, либо в силу акта об амнистии или помилова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уществует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фактическое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юридическое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основание уголовной ответствен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Лицо, совершившее преступление, подлежит уголовной ответственности независимо от происхождения, социального, должностного и имущественного положения, расовой и национальной принадлежности, пола, образования, язык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555b2b1051829baa530b98c880c1bbd6"/>
          <p:cNvPicPr/>
          <p:nvPr/>
        </p:nvPicPr>
        <p:blipFill>
          <a:blip r:embed="rId1"/>
          <a:stretch/>
        </p:blipFill>
        <p:spPr>
          <a:xfrm>
            <a:off x="395280" y="3933720"/>
            <a:ext cx="1933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5219640" cy="287964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Уровень общественной опасности, а значит и характер наказания зависят от целого ряда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енности охраняемого объек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а и размера преступного последств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пособ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руд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бстановки совершения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3933720"/>
            <a:ext cx="6012000" cy="237636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 общественной опасност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преступления делятся на насильственные, экономические, государственные, хозяйственные, умышленные и неосторож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: особо тяжкие, тяжкие, средней тяжести, и не представляющие большой общественной опас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62400" y="3068640"/>
            <a:ext cx="819396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уществ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качественные и количественные характеристики преступления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0712-02"/>
          <p:cNvPicPr/>
          <p:nvPr/>
        </p:nvPicPr>
        <p:blipFill>
          <a:blip r:embed="rId1"/>
          <a:stretch/>
        </p:blipFill>
        <p:spPr>
          <a:xfrm>
            <a:off x="6659640" y="3933720"/>
            <a:ext cx="2293920" cy="292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18" name="Picture 7" descr="2871b"/>
          <p:cNvPicPr/>
          <p:nvPr/>
        </p:nvPicPr>
        <p:blipFill>
          <a:blip r:embed="rId2"/>
          <a:stretch/>
        </p:blipFill>
        <p:spPr>
          <a:xfrm>
            <a:off x="5867280" y="404640"/>
            <a:ext cx="2857680" cy="2200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0440" y="1125360"/>
            <a:ext cx="927144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оставом преступления принято называть совокуп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становленных законом объективных и субъективных признаков престу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268360" y="1844640"/>
            <a:ext cx="6696360" cy="3934440"/>
          </a:xfrm>
          <a:prstGeom prst="rect">
            <a:avLst/>
          </a:prstGeom>
          <a:solidFill>
            <a:srgbClr val="ffcc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ом преступления являются охраняемые законом общественные отнош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Объект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может бы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им (вся совокупность общественных отношен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одовым (однородная группа общественных отношений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посредственным (то общественное отношение, которое терпит ущер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Беспредметных преступлений не существует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ивная сторона преступления - это внешняя сторо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а есть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субъективна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- мотивы и цели, отношение виновного к своему деянию и его последствия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6159600"/>
            <a:ext cx="9144000" cy="91692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деляют такие формы преступления, как: длящиеся, продолжаем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овторяемые) и составные (различные преступления, совершенные одним лиц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37680" y="5734080"/>
            <a:ext cx="8032320" cy="36828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ступление может выражаться как в действии, так и бездейств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9" descr="020202ac"/>
          <p:cNvPicPr/>
          <p:nvPr/>
        </p:nvPicPr>
        <p:blipFill>
          <a:blip r:embed="rId1"/>
          <a:stretch/>
        </p:blipFill>
        <p:spPr>
          <a:xfrm>
            <a:off x="108000" y="2492280"/>
            <a:ext cx="2016000" cy="2884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51280" y="1197000"/>
            <a:ext cx="5113440" cy="5516640"/>
          </a:xfrm>
          <a:prstGeom prst="rect">
            <a:avLst/>
          </a:prstGeom>
          <a:solidFill>
            <a:srgbClr val="a870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тяжкие и распространенные преступления ответственность наступает с 14 л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иды убийст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ышленное нанесение телесных повреждений, причинивших расстройство здоров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б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беж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жу чужого имуще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остное и особо злостное хулиган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щение огнестрельного оружия, наркотиков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ое наказание применяется к подросткам не тогда, когда это возможно, а только тогда, когда без него нельзя обойтись. В некоторых случаях уголовный закон предусматривает уголовную ответственность лица по достижении им 18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46920" y="260280"/>
            <a:ext cx="8216640" cy="642600"/>
          </a:xfrm>
          <a:prstGeom prst="rect">
            <a:avLst/>
          </a:prstGeom>
          <a:solidFill>
            <a:srgbClr val="a870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бъектом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я может быть признано физическое лиц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няемое и достигшее возраста уголовной ответственности -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6 л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8" descr="f75d3f8977640d6973375c6ae8291759областном суде состоялось заседание"/>
          <p:cNvPicPr/>
          <p:nvPr/>
        </p:nvPicPr>
        <p:blipFill>
          <a:blip r:embed="rId1"/>
          <a:stretch/>
        </p:blipFill>
        <p:spPr>
          <a:xfrm>
            <a:off x="179280" y="3716280"/>
            <a:ext cx="3527640" cy="2851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28" name="Picture 10" descr="173924239"/>
          <p:cNvPicPr/>
          <p:nvPr/>
        </p:nvPicPr>
        <p:blipFill>
          <a:blip r:embed="rId2"/>
          <a:stretch/>
        </p:blipFill>
        <p:spPr>
          <a:xfrm>
            <a:off x="179280" y="1268280"/>
            <a:ext cx="3346560" cy="21463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780000" y="189000"/>
            <a:ext cx="4895640" cy="436284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Субъектом преступления также может выступать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юридическое лицо</a:t>
            </a: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(предприятие, учреждение, организация и т.д.), если его деятельность не соответствует учредительным документам или объявленным ц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За это преступление предусматривается штраф, запрещение заниматься определенной деятельностью, конфискация имущества, ликвидация юридического лица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95280" y="4653000"/>
            <a:ext cx="8569440" cy="20142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оучастие в преступлени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есть умышленное совместное участие двух или более лиц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зависимости от характера выполняемых действий соучастники подразделяются на исполнителей, организаторов, подстрекателей и пособ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ветственность соучастников определяется характером участия каждого из них в совершении преступ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element-589841-misc-plut_700"/>
          <p:cNvPicPr/>
          <p:nvPr/>
        </p:nvPicPr>
        <p:blipFill>
          <a:blip r:embed="rId1"/>
          <a:stretch/>
        </p:blipFill>
        <p:spPr>
          <a:xfrm>
            <a:off x="250920" y="2421000"/>
            <a:ext cx="3076560" cy="20876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32" name="Picture 7" descr="karikatura224"/>
          <p:cNvPicPr/>
          <p:nvPr/>
        </p:nvPicPr>
        <p:blipFill>
          <a:blip r:embed="rId2"/>
          <a:stretch/>
        </p:blipFill>
        <p:spPr>
          <a:xfrm>
            <a:off x="108000" y="189000"/>
            <a:ext cx="3600360" cy="210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аказание, их система и вид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4400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устанавливается с учетом тяжести совершенного преступления, степени общественной опасности личности, обстоятельств, смягчающих и отягощающих уголовную ответствен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д учитывает также обстоятельства дела и личность виновного, а равно его явку с повинной либо активное способствование раскрытию пре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700360" y="3284640"/>
            <a:ext cx="6265800" cy="146556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ризнак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аказания являются предусмотренность зако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убличность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рицательность морально-политической оценк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менимость только по решению с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iгпв"/>
          <p:cNvPicPr/>
          <p:nvPr/>
        </p:nvPicPr>
        <p:blipFill>
          <a:blip r:embed="rId1"/>
          <a:stretch/>
        </p:blipFill>
        <p:spPr>
          <a:xfrm>
            <a:off x="0" y="3213000"/>
            <a:ext cx="2554200" cy="148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37" name="Rectangle 7"/>
          <p:cNvSpPr/>
          <p:nvPr/>
        </p:nvSpPr>
        <p:spPr>
          <a:xfrm>
            <a:off x="0" y="4824360"/>
            <a:ext cx="8785080" cy="1992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ацелено на исправление осужденного и предупреждение новых преступлений как осужденным, так и иными лиц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е имеет целью причинение осужденному физических страданий или унижение его человеческого достои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0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179280" y="3500280"/>
            <a:ext cx="8964720" cy="305136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ополнительные наказания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не могут применяться самостоятельно, к ним можно отнести конфискацию имущества, лишение воинского или специального з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виде исключительной меры наказания допускается применение смертной казни - расстрела (умышленное убийство с особой жестокостью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ней не могут быть приговорены несовершеннолетние до 18 лет, женщины в состоянии беременности (по проекту - она не должна применяться к женщинам, к мужчинам старше 65 лет). В результате помилования смертная казнь может заменяться пожизненным заклю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6040" y="401760"/>
            <a:ext cx="3826080" cy="8254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К основ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наказаниям относ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79280" y="1700280"/>
            <a:ext cx="4572000" cy="155700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лишение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исправительные работы без лишения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бщественное пориц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8" descr="rthria_cont"/>
          <p:cNvPicPr/>
          <p:nvPr/>
        </p:nvPicPr>
        <p:blipFill>
          <a:blip r:embed="rId1"/>
          <a:stretch/>
        </p:blipFill>
        <p:spPr>
          <a:xfrm>
            <a:off x="5003640" y="189000"/>
            <a:ext cx="4140360" cy="3240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реступления, попадающие под действие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50846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онституция РФ закрепила право человека на жизнь, свободу и личную неприкосновенность, поэтому охрана жизни, здоровья, свободы, чести и достоинства - одна из важнейших задач уголовного законодатель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м опасным являются убийства (противоправное умышленное или неосторожное лишение жизни другого человек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е менее опасным является умышленное нанесение тяжелого телесного повреждения, изнасилование, незаконное лишение свободы, захват заложников, похищение человека, помещение в психиатрическую больницу заведомо психически здорового человека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iмтт"/>
          <p:cNvPicPr/>
          <p:nvPr/>
        </p:nvPicPr>
        <p:blipFill>
          <a:blip r:embed="rId1"/>
          <a:stretch/>
        </p:blipFill>
        <p:spPr>
          <a:xfrm>
            <a:off x="5724360" y="4149720"/>
            <a:ext cx="3240360" cy="212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5" name="Picture 5" descr="iаол"/>
          <p:cNvPicPr/>
          <p:nvPr/>
        </p:nvPicPr>
        <p:blipFill>
          <a:blip r:embed="rId2"/>
          <a:stretch/>
        </p:blipFill>
        <p:spPr>
          <a:xfrm>
            <a:off x="6227640" y="1989000"/>
            <a:ext cx="2355840" cy="161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5219640" cy="453096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К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рыстным преступления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относятся преступления против собственности - незаконное обогащение за счет чужого иму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реди них можно выделить: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ражу, грабеж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- открытое изъятие имущества без насилия либо с насилием, не опасным для жиз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бой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насильственное нападение, опасное для жизни и здоровья (физически или психологически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ошенничество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завладение чужим имуществом путем обмана или злоупотребления довери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ымогатель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чужого имущества - требование передачи имущества или права на него под угрозой применения насилия, шант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5445000"/>
            <a:ext cx="8748720" cy="5896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кражу, грабеж и разбой ответственность наступает с 14 л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остальные преступления - с 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6" descr="hru"/>
          <p:cNvPicPr/>
          <p:nvPr/>
        </p:nvPicPr>
        <p:blipFill>
          <a:blip r:embed="rId1"/>
          <a:stretch/>
        </p:blipFill>
        <p:spPr>
          <a:xfrm>
            <a:off x="5867280" y="2852640"/>
            <a:ext cx="3075120" cy="2160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9" name="Picture 7" descr="1222739497_14"/>
          <p:cNvPicPr/>
          <p:nvPr/>
        </p:nvPicPr>
        <p:blipFill>
          <a:blip r:embed="rId2"/>
          <a:stretch/>
        </p:blipFill>
        <p:spPr>
          <a:xfrm>
            <a:off x="6227640" y="0"/>
            <a:ext cx="2354400" cy="2565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5435640" cy="48974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лк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нецензурная брань в общественных местах, оскорбительное приставание к гражданам и т.д.) предусмотрена административная ответствен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ст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наказывается лишением свободы сроком до одного года или исправительными работами, или штраф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лостн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отличается исключительным цинизмом или особой дерзостью, сопротивлением власти или гражданам, пресекающим хулиганские действия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лишение свободы от одного до пяти лет (глумление над престарелыми или больными, уничтожение имущества потерпевшег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 трех до семи лет за совершение особо злостного хулиганства (с применением огнестрельного или холодного оружия, кастетов и др. предметов, специально предназначенных для нанесения телесных поврежден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000126ir"/>
          <p:cNvPicPr/>
          <p:nvPr/>
        </p:nvPicPr>
        <p:blipFill>
          <a:blip r:embed="rId1"/>
          <a:stretch/>
        </p:blipFill>
        <p:spPr>
          <a:xfrm>
            <a:off x="6012000" y="2924280"/>
            <a:ext cx="2879640" cy="26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0" y="189000"/>
            <a:ext cx="9036000" cy="91692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улиганство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ражается в активных действиях, грубо наруша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ественный порядок и выражающих явное неуважение к личности и общ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9640" y="1197000"/>
            <a:ext cx="8210520" cy="53244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зличают три его разновидности: простое, злостное и особо злост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7528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Происхождение наз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Понят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Понятие и признаки преступ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Состав преступ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Наказание, их система и виды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_x000b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Преступления, попадающие под действ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Преступники, заставившие говорить о себе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Схемы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17по"/>
          <p:cNvPicPr/>
          <p:nvPr/>
        </p:nvPicPr>
        <p:blipFill>
          <a:blip r:embed="rId9"/>
          <a:stretch/>
        </p:blipFill>
        <p:spPr>
          <a:xfrm>
            <a:off x="179280" y="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90"/>
          <p:cNvPicPr/>
          <p:nvPr/>
        </p:nvPicPr>
        <p:blipFill>
          <a:blip r:embed="rId10"/>
          <a:stretch/>
        </p:blipFill>
        <p:spPr>
          <a:xfrm>
            <a:off x="7740720" y="115920"/>
            <a:ext cx="1238040" cy="155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9"/>
          <p:cNvPicPr/>
          <p:nvPr/>
        </p:nvPicPr>
        <p:blipFill>
          <a:blip r:embed="rId11"/>
          <a:stretch/>
        </p:blipFill>
        <p:spPr>
          <a:xfrm>
            <a:off x="6588000" y="522936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193080" cy="240516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этим преступлениям относятся: незаконное изготовление, приобретение, хранение, перевозка или сбыт наркотических веще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сли лицо добровольно сдало его или обратилось за медицинской помощью - оно освобождается от ответственности (за приобретение, хранение, перевозку и пересылк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default"/>
          <p:cNvPicPr/>
          <p:nvPr/>
        </p:nvPicPr>
        <p:blipFill>
          <a:blip r:embed="rId1"/>
          <a:stretch/>
        </p:blipFill>
        <p:spPr>
          <a:xfrm>
            <a:off x="6443640" y="765000"/>
            <a:ext cx="2548080" cy="1656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49680" y="404640"/>
            <a:ext cx="6404760" cy="91692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убъектами преступлений, связанных с наркомани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являются вменяемые ли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остигшие 16-ти летнего возраста (за хищение - с 1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627280" y="4292640"/>
            <a:ext cx="6351480" cy="1743120"/>
          </a:xfrm>
          <a:prstGeom prst="rect">
            <a:avLst/>
          </a:prstGeom>
          <a:solidFill>
            <a:srgbClr val="7e7b3e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го карается умышленное повреждение или уничтожение чужого имущества, приводящее к остановке деятельности предприятия, отравлению людей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общеопасным способам относятся поджог, взрыв, затопление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ветственность - с 16 л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" descr="107837"/>
          <p:cNvPicPr/>
          <p:nvPr/>
        </p:nvPicPr>
        <p:blipFill>
          <a:blip r:embed="rId2"/>
          <a:stretch/>
        </p:blipFill>
        <p:spPr>
          <a:xfrm>
            <a:off x="324000" y="4365720"/>
            <a:ext cx="2016000" cy="1428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59" name="Picture 8" descr="17"/>
          <p:cNvPicPr/>
          <p:nvPr/>
        </p:nvPicPr>
        <p:blipFill>
          <a:blip r:embed="rId3"/>
          <a:stretch/>
        </p:blipFill>
        <p:spPr>
          <a:xfrm>
            <a:off x="7093080" y="285264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бществознание 8-9 под редакцией Боголюбова, М.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§ 30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опросы 1-4, уст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нятия- зн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Эссе-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вторить с.192 – термины и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15"/>
          <p:cNvPicPr/>
          <p:nvPr/>
        </p:nvPicPr>
        <p:blipFill>
          <a:blip r:embed="rId1"/>
          <a:stretch/>
        </p:blipFill>
        <p:spPr>
          <a:xfrm>
            <a:off x="6465960" y="2421000"/>
            <a:ext cx="137772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4"/>
          <p:cNvPicPr/>
          <p:nvPr/>
        </p:nvPicPr>
        <p:blipFill>
          <a:blip r:embed="rId2"/>
          <a:stretch/>
        </p:blipFill>
        <p:spPr>
          <a:xfrm>
            <a:off x="547560" y="404640"/>
            <a:ext cx="102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Преступники, заставившие говорить о себе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9036000" cy="5688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Задуманное, хотя и не осуществленное преступление есть все же преступление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 прощает преступление, становится его сообщником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, имея возможность предупредить преступление, не делает этого, тот ему способствует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зорно не наказание, а преступление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дер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 всех преступлений самое тяжкое — это бессердечие. Камю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еступление нуждается лишь в предлоге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   -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трашные преступления влекут за собой страшные последствия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цен А.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юбовь к отечеству, стыд и страх поношения суть средства укротительная и могущие воздержать множество преступлений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воров А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олько слабые совершают преступления: сильному и счастливому они не нужны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й отъявленный злодей старается извинить себя и уговорить, что совершенное им преступление не особенно существенно и обусловлено необходимостью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есси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ораздо лучше предупреждать преступления, нежели их наказывать. - Екатерина Вели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евять десятых из всего числа преступлений, пятнающих человечество, совершены под влиянием вина.- Толстой Л. 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o_tundre.mp3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Oval 5"/>
          <p:cNvSpPr/>
          <p:nvPr/>
        </p:nvSpPr>
        <p:spPr>
          <a:xfrm>
            <a:off x="8748720" y="6237360"/>
            <a:ext cx="216000" cy="4111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Джон Диллинджер – враг общества номер оди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6227640" cy="45306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жон Диллинджер - это преступник нового типа, широко применявший технические достижения цивилизации. Он активно пользовался автомобилями и одним из первых внедрил систему захвата заложников при ограблениях банков. Долгое время Диллинджер был головной болью всей полицейской Америки, ухитряясь совершать побеги из хорошо охраняемых тюрем. Его похождения и смерть во многом напоминают историю романтической парочки грабителей - Бонни Паркер и Клайда Барр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последующие десятилетия по образцу банды Диллинджера были совершены десятки тысяч преступлений. И поныне не только в Америке, но и в Европе подражатели Диллинджера наводят на банковских служащих ужас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_mikemouse_alive_mod_p189104355_id113041"/>
          <p:cNvPicPr/>
          <p:nvPr/>
        </p:nvPicPr>
        <p:blipFill>
          <a:blip r:embed="rId1"/>
          <a:stretch/>
        </p:blipFill>
        <p:spPr>
          <a:xfrm>
            <a:off x="6732720" y="2565360"/>
            <a:ext cx="2251080" cy="27129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Аль Кап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Альфонсо Габриэль Капоне, или Аль Капоне (итал. Alfonso Capone; 17 января 1899 — 25 января 1947) — знаменитый американский гангстер, действовавший в 1920—1930-х годах на территории Чик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Под прикрытием мебельного бизнеса занимался бутлегерством, игорным бизнесом и сутенёр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Яркий представитель организованной преступности США, зародившейся и существующей там под влиянием итальянской м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вестен также под прозвищем Лицо со шра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150px-Capone_TeenagerАльфонсо Габриэль Капоне"/>
          <p:cNvPicPr/>
          <p:nvPr/>
        </p:nvPicPr>
        <p:blipFill>
          <a:blip r:embed="rId1"/>
          <a:stretch/>
        </p:blipFill>
        <p:spPr>
          <a:xfrm>
            <a:off x="6804000" y="620640"/>
            <a:ext cx="2063880" cy="2737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Лёнька Пантеле́е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948360" cy="51800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ёнька Пантеле́ев (настоящее имя Леони́д Ива́нович Пантёлкин; 1902, Тихвин — 13 февраля 1923, Петроград) — знаменитый петроградский налётч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ачале 1922 года Пантелеев обосновался в Петрограде, где собрал банду в которую вошли: сослуживец Пантелеева по Псковской ВЧК Варшулевич, бывший во время гражданской войны комиссар батальона член РКП(б) Гавриков и профессиональные уголовники Александр Рейнтоп (кличка Сашка-пан) и Михаил Лисенков (кличка Мишка-Корявый). Примерно в то же время банда совершила ряд разбоев в г. Петрограде и его окрестност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алёты Пантелеева отличались тщательной подготовкой, а также некоторой театральностью и бравадой. Оружие Пантелеев и его люди применяли крайне редко. В то же время, в период своего существования банда Пантелеева не ограбила ни одну государственную организацию. Тот факт, что Пантелеев грабил только нэпманов, создал ему своеобразный романтический ореол в глазах простого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октябре 1922 года Пантелеев был арестован после перестрелки, в ходе которой погиб сотрудник милиции. В ночь с 10 на 11 ноября, воспользовавшись помощью надзирателя, Пантелеев с несколькими сообщниками совершил побег из тюрьмы и начал новую серию вооруженных разбоев. От первой серии эта отличалась тем, что Пантелеев иногда убивал своих жертв. К ликвидации банды были привлечены не только уголовный розыск, но и органы ГП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очь с 12 на 13 февраля 1923 год Пантелеев попал в засаду и был убит при задержа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0px-LPanteleev"/>
          <p:cNvPicPr/>
          <p:nvPr/>
        </p:nvPicPr>
        <p:blipFill>
          <a:blip r:embed="rId1"/>
          <a:stretch/>
        </p:blipFill>
        <p:spPr>
          <a:xfrm>
            <a:off x="7020000" y="404640"/>
            <a:ext cx="1908000" cy="2349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877080" cy="6858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о́нька — Золота́я ру́чка» великая аферистка и мошенница начала XX-го века Софья Ивановна Блювштейн (Шейндл Соломониа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егодняшний интерес к Софье вполне объясни́м — бурное начало века, давшее нам целую плеяду великих аферистов, вполне созвучно нашему не менее бурному време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Жизнь легендарной в своём роде, дамы-авантюристки, известной в преступном мире, как Сонька-«Золотая Ручка», стала основой увлекательнейшего многосерийного повествования. В середине семидесятых годов XIX века о ней слагались легенды, она была неуловима и изобретательна, таланту и авторитету в уголовном мире не было равны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лагодаря поистине редкому криминальному мышлению, она приобрела опыт и смелость, подчинив свою жизнь и интеллект воровской профессии. В поле её деятельности оказывались крупные банкиры, иностранные дельцы, помещики, владельцы ювелирных магазинов, аристократические клубы, квартиры состоятельных людей. Это была яркая и талантливая, красивая и циничная; обаятельная и любвеобильная женщина, решившая для себя, что жизнь — игра, и в этой игре она не один год гастролировала по России и загранице, поражая воровской изобретательностью, убегая от преследования полиции, искусно исчезая и скрываясь…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олна преступлений, прокатившаяся по Европе, заставила говорить о Соньке весь мир. «Золотая ручка» отличалась особой скрупулезностью. Она тщательно готовилась к каждому преступлению. В её команде работали лучшие воры Европы, в её арсенале было множество приспособлений, необходимых для работы: накладные ногти, куда мошенница прятала мелкие ювелирные камни, туфли со специальными каблуками, к которым «вовремя» прилипали ювелирные украшения, платье-мешок, куда Сонька прятала награбленое. Но главным в её арсенале всевозможных уловок был несомненно актёрский талант, который помогал ей выпутываться из любы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4" descr="999952soniaka_zol_r"/>
          <p:cNvPicPr/>
          <p:nvPr/>
        </p:nvPicPr>
        <p:blipFill>
          <a:blip r:embed="rId1"/>
          <a:stretch/>
        </p:blipFill>
        <p:spPr>
          <a:xfrm>
            <a:off x="6948360" y="620640"/>
            <a:ext cx="2048040" cy="2857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79" name="Rectangle 5"/>
          <p:cNvSpPr/>
          <p:nvPr/>
        </p:nvSpPr>
        <p:spPr>
          <a:xfrm>
            <a:off x="6756480" y="3860640"/>
            <a:ext cx="230976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дин 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мног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жизне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ртретов С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209080" cy="568944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1.Принцип зако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ность и наказуемость деяния определяется только уголовным зако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2.Принцип раве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граждан перед законом. Лица совершившие преступления вне зависимости от привходящих обстоятельств, привлекаются к уголовной ответственности. За равные преступления назначается соразмерная ответствен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3.Принцип вины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подлежит уголовной ответственности только за те общественно опасные деяния, в отношении которых установлена его в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4.Принцип справедлив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наказание должно соответствовать характеру и степени общественной опас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ления, личности виновного и обстоятельствам его совер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5.Принцип гуман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законодательство направлено на обеспечение безопасности гражд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6.Принцип демократ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Уголовные законы принимаются только высшим законодательным органом, который избирается всем населением и, следовательно, выражает его вол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7.Принцип личной ответстве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совершившее преступление несет ответственность только за то, что соверше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8.Принцип неотвратим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тветственности. Любое лицо совершившее преступление должно понести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835280" y="189000"/>
            <a:ext cx="45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Принципы уголовного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28-1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6119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14080" y="115920"/>
            <a:ext cx="3236400" cy="36828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1 –Уголовное пра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8-2"/>
          <p:cNvPicPr/>
          <p:nvPr/>
        </p:nvPicPr>
        <p:blipFill>
          <a:blip r:embed="rId1"/>
          <a:stretch/>
        </p:blipFill>
        <p:spPr>
          <a:xfrm>
            <a:off x="108000" y="836640"/>
            <a:ext cx="87850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1903680" y="203040"/>
            <a:ext cx="52585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2 -  Уголовное право: особенн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оисхождение наз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720" y="1436760"/>
            <a:ext cx="5904000" cy="537192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большинстве языков мира название правовой отрасли, регулирующей отношения, связанные с совершением преступлений происходит от слов «преступление» (например, в англоязычных странах — criminal law, от англ. crime) или «наказание» (в Германии — Strafrecht, от нем. Strafe, в Болгарии — наказателно пра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. С. Таганцев писал по этому поводу: «Преступное деяние как юридическое отношение заключает в себе два отдельных момента: отношение преступника к охраняемому законом юридическому интересу — преступление и отношение государства к преступнику, вызываемое учиненным им преступным деянием, — наказа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этому и уголовное право может быть конструировано двояко: или на первый план ставится преступное деяние, по отношению к которому кара или наказание является более или менее неизбежным последствием, или же вперед выдвигается карательная деятельность государства и преступное деяние рассматривается только как основание этой деятельности. Отсюда и двойственное название науки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6300720" y="1844640"/>
            <a:ext cx="2735280" cy="5013360"/>
            <a:chOff x="6300720" y="1844640"/>
            <a:chExt cx="2735280" cy="5013360"/>
          </a:xfrm>
        </p:grpSpPr>
        <p:pic>
          <p:nvPicPr>
            <p:cNvPr id="168" name="Picture 8" descr="salicaLex Salica"/>
            <p:cNvPicPr/>
            <p:nvPr/>
          </p:nvPicPr>
          <p:blipFill>
            <a:blip r:embed="rId1"/>
            <a:stretch/>
          </p:blipFill>
          <p:spPr>
            <a:xfrm>
              <a:off x="6300720" y="4336920"/>
              <a:ext cx="2735280" cy="252108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  <p:grpSp>
          <p:nvGrpSpPr>
            <p:cNvPr id="169" name="Group 10"/>
            <p:cNvGrpSpPr/>
            <p:nvPr/>
          </p:nvGrpSpPr>
          <p:grpSpPr>
            <a:xfrm>
              <a:off x="6723360" y="1844640"/>
              <a:ext cx="2258640" cy="2669760"/>
              <a:chOff x="6723360" y="1844640"/>
              <a:chExt cx="2258640" cy="2669760"/>
            </a:xfrm>
          </p:grpSpPr>
          <p:pic>
            <p:nvPicPr>
              <p:cNvPr id="170" name="Picture 7" descr="Franki"/>
              <p:cNvPicPr/>
              <p:nvPr/>
            </p:nvPicPr>
            <p:blipFill>
              <a:blip r:embed="rId2"/>
              <a:stretch/>
            </p:blipFill>
            <p:spPr>
              <a:xfrm>
                <a:off x="7164360" y="1844640"/>
                <a:ext cx="1817640" cy="2278080"/>
              </a:xfrm>
              <a:prstGeom prst="rect">
                <a:avLst/>
              </a:prstGeom>
              <a:ln w="9360">
                <a:solidFill>
                  <a:srgbClr val="663300"/>
                </a:solidFill>
                <a:miter/>
              </a:ln>
            </p:spPr>
          </p:pic>
          <p:sp>
            <p:nvSpPr>
              <p:cNvPr id="171" name="Text Box 9"/>
              <p:cNvSpPr/>
              <p:nvPr/>
            </p:nvSpPr>
            <p:spPr>
              <a:xfrm>
                <a:off x="6723360" y="3933720"/>
                <a:ext cx="2131560" cy="580680"/>
              </a:xfrm>
              <a:prstGeom prst="rect">
                <a:avLst/>
              </a:prstGeom>
              <a:solidFill>
                <a:srgbClr val="f8a5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Салическая правда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Tahoma"/>
                  </a:rPr>
                  <a:t>(</a:t>
                </a: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(Lex Salica</a:t>
                </a:r>
                <a:r>
                  <a:rPr b="1" i="1" lang="en-US" sz="1600" spc="-1" strike="noStrike">
                    <a:solidFill>
                      <a:srgbClr val="663300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72" name="Picture 12" descr="9"/>
          <p:cNvPicPr/>
          <p:nvPr/>
        </p:nvPicPr>
        <p:blipFill>
          <a:blip r:embed="rId3"/>
          <a:stretch/>
        </p:blipFill>
        <p:spPr>
          <a:xfrm>
            <a:off x="6705720" y="115920"/>
            <a:ext cx="2438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image002"/>
          <p:cNvPicPr/>
          <p:nvPr/>
        </p:nvPicPr>
        <p:blipFill>
          <a:blip r:embed="rId1"/>
          <a:stretch/>
        </p:blipFill>
        <p:spPr>
          <a:xfrm>
            <a:off x="2124000" y="57240"/>
            <a:ext cx="6264360" cy="6800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87" name="Text Box 5"/>
          <p:cNvSpPr/>
          <p:nvPr/>
        </p:nvSpPr>
        <p:spPr>
          <a:xfrm>
            <a:off x="179280" y="907920"/>
            <a:ext cx="151308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3-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image001"/>
          <p:cNvPicPr/>
          <p:nvPr/>
        </p:nvPicPr>
        <p:blipFill>
          <a:blip r:embed="rId1"/>
          <a:stretch/>
        </p:blipFill>
        <p:spPr>
          <a:xfrm>
            <a:off x="2050920" y="549360"/>
            <a:ext cx="6480360" cy="6048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89" name="Text Box 5"/>
          <p:cNvSpPr/>
          <p:nvPr/>
        </p:nvSpPr>
        <p:spPr>
          <a:xfrm>
            <a:off x="361800" y="907920"/>
            <a:ext cx="157968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4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95640" y="259920"/>
            <a:ext cx="4680000" cy="659772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звание этой отрасли права в русском языке имеет опосредованное отношение как к преступлению, так и к наказанию. Прилагательное «уголовный» было введено в правовой лексикон в последней четверти XVIII 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го происхождение является двояким: с одной стороны, оно восходит к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юридическим памятникам Древней Руси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, употреблявшим такие термины, как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а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тый человек),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ник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йца), «головщина» (убийство), «головничество» (вознаграждение родственникам убит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 другой стороны —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к латинскому прилагательному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capitalis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от caput — голова, человек, индивидуум), которое в римском праве входило в названия наиболее суровых видов наказаний, связанных со смертной казнью, лишением свободы или римского граждан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«Ярослав Мудрый»"/>
          <p:cNvPicPr/>
          <p:nvPr/>
        </p:nvPicPr>
        <p:blipFill>
          <a:blip r:embed="rId1"/>
          <a:stretch/>
        </p:blipFill>
        <p:spPr>
          <a:xfrm>
            <a:off x="0" y="189000"/>
            <a:ext cx="20509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avda"/>
          <p:cNvPicPr/>
          <p:nvPr/>
        </p:nvPicPr>
        <p:blipFill>
          <a:blip r:embed="rId2"/>
          <a:stretch/>
        </p:blipFill>
        <p:spPr>
          <a:xfrm>
            <a:off x="0" y="378936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img83033"/>
          <p:cNvPicPr/>
          <p:nvPr/>
        </p:nvPicPr>
        <p:blipFill>
          <a:blip r:embed="rId3"/>
          <a:stretch/>
        </p:blipFill>
        <p:spPr>
          <a:xfrm>
            <a:off x="7164360" y="4338720"/>
            <a:ext cx="17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19722823"/>
          <p:cNvPicPr/>
          <p:nvPr/>
        </p:nvPicPr>
        <p:blipFill>
          <a:blip r:embed="rId4"/>
          <a:stretch/>
        </p:blipFill>
        <p:spPr>
          <a:xfrm>
            <a:off x="6948360" y="2852640"/>
            <a:ext cx="1979640" cy="13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80104633_tonnelЦицерон Марк"/>
          <p:cNvPicPr/>
          <p:nvPr/>
        </p:nvPicPr>
        <p:blipFill>
          <a:blip r:embed="rId5"/>
          <a:stretch/>
        </p:blipFill>
        <p:spPr>
          <a:xfrm>
            <a:off x="7093080" y="189000"/>
            <a:ext cx="1860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27280" y="259920"/>
            <a:ext cx="6059520" cy="3024360"/>
          </a:xfrm>
          <a:prstGeom prst="rect">
            <a:avLst/>
          </a:prstGeom>
          <a:solidFill>
            <a:srgbClr val="ffcc66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ак, ещё М. М. Сперанский в пояснениях к проекту Уголовного уложения Российской Империи 1813 года указывал, что уголовные наказания «суть те, где дело идет о голове, т. е. о жизни, diminutio capit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Жизнь каждого лица в обществе есть троякая: физическая, политическая и гражданская; две последние именуются правами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сякое наказание, непосредственно удручающее или умаляющее бытие или состояние лица, есть наказание уголовн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50920" y="404640"/>
            <a:ext cx="2136600" cy="3039840"/>
            <a:chOff x="250920" y="404640"/>
            <a:chExt cx="2136600" cy="3039840"/>
          </a:xfrm>
        </p:grpSpPr>
        <p:pic>
          <p:nvPicPr>
            <p:cNvPr id="181" name="Picture 4" descr="iМихаил Михайлович Сперанский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2136600" cy="2521080"/>
            </a:xfrm>
            <a:prstGeom prst="rect">
              <a:avLst/>
            </a:prstGeom>
            <a:ln w="38160">
              <a:solidFill>
                <a:srgbClr val="663300"/>
              </a:solidFill>
              <a:miter/>
            </a:ln>
          </p:spPr>
        </p:pic>
        <p:sp>
          <p:nvSpPr>
            <p:cNvPr id="182" name="Rectangle 5"/>
            <p:cNvSpPr/>
            <p:nvPr/>
          </p:nvSpPr>
          <p:spPr>
            <a:xfrm>
              <a:off x="313200" y="2924280"/>
              <a:ext cx="2058120" cy="52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Михаил Михайлович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Сперанск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1979640" y="4292640"/>
            <a:ext cx="6848280" cy="228852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венного порядка и безопасности, окружающей среды, конституционного строя от преступных посягательств, обеспечение мира и безопасности человечества, а 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395280" y="486900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58776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132000" y="3573360"/>
            <a:ext cx="4751640" cy="48276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дачи уголовного законода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3284640"/>
            <a:ext cx="5616360" cy="337968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ринципы уголовного права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зако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равенство граждан перед закон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еотвратимость ответствен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личная и виновная ответстве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праведливость и гуман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емократ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сключение двойной уголовной ответственности за одно и то же де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9280" y="1052640"/>
            <a:ext cx="885672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анная отрасль права определяет общественно опасные дея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реступления) и меру ответственности, наказания за их совер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92360" y="1916280"/>
            <a:ext cx="6810120" cy="7038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Особенность Уголовного права заклю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в охране общества от преступных посягатель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7" descr="гев"/>
          <p:cNvPicPr/>
          <p:nvPr/>
        </p:nvPicPr>
        <p:blipFill>
          <a:blip r:embed="rId1"/>
          <a:stretch/>
        </p:blipFill>
        <p:spPr>
          <a:xfrm>
            <a:off x="179280" y="4869000"/>
            <a:ext cx="2880000" cy="1726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191" name="Picture 8" descr="sf_photo_lv_2"/>
          <p:cNvPicPr/>
          <p:nvPr/>
        </p:nvPicPr>
        <p:blipFill>
          <a:blip r:embed="rId2"/>
          <a:stretch/>
        </p:blipFill>
        <p:spPr>
          <a:xfrm>
            <a:off x="395280" y="3141720"/>
            <a:ext cx="2427120" cy="134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971640" y="189000"/>
            <a:ext cx="7199280" cy="6426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нятие уголовного прав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036000" cy="118116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истема уголовного права разделяется на Общую, (излагающую основные цели, задачи и принципы) и Особенную (рассматривает вопросы ответственности за совершение конкретных преступлений)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189000"/>
            <a:ext cx="6213600" cy="36828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арактеристика Уголовного код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95640" y="907920"/>
            <a:ext cx="5761080" cy="45972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2 разделов    -     360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826920" y="2924280"/>
            <a:ext cx="2953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бщая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5415120" y="2849400"/>
            <a:ext cx="27032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9280" y="3886200"/>
            <a:ext cx="3816360" cy="2899080"/>
          </a:xfrm>
          <a:prstGeom prst="rect">
            <a:avLst/>
          </a:prstGeom>
          <a:solidFill>
            <a:srgbClr val="cca5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головный зако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аказ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свобождение от уголовной ответствен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О несовершеннолетн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инудительные м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едицинского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аракте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50920" y="3946680"/>
            <a:ext cx="4152240" cy="2838240"/>
          </a:xfrm>
          <a:prstGeom prst="rect">
            <a:avLst/>
          </a:prstGeom>
          <a:solidFill>
            <a:srgbClr val="cca5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лич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в сфере эконом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обществен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ой безопас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гос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во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луж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0" descr="7"/>
          <p:cNvPicPr/>
          <p:nvPr/>
        </p:nvPicPr>
        <p:blipFill>
          <a:blip r:embed="rId1"/>
          <a:stretch/>
        </p:blipFill>
        <p:spPr>
          <a:xfrm>
            <a:off x="150840" y="189000"/>
            <a:ext cx="96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008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a500"/>
                </a:solidFill>
                <a:latin typeface="Tahoma"/>
              </a:rPr>
              <a:t>формулируют основные понятия и принципы уголов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547640" y="1916280"/>
            <a:ext cx="5780160" cy="45972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бще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95640" y="4005360"/>
            <a:ext cx="4626000" cy="459720"/>
          </a:xfrm>
          <a:prstGeom prst="rect">
            <a:avLst/>
          </a:prstGeom>
          <a:solidFill>
            <a:srgbClr val="f8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собенно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8880" y="4797360"/>
            <a:ext cx="883080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испозиция 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анкция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79280" y="333360"/>
            <a:ext cx="8748720" cy="146556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Единственным источником УП является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уголовный закон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, основывающийся на Конституции РФ и общепризнанных нормах международного пра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ый Кодекс (УК) подразделяется на Общую (общие положения) и Особенную (конкретные статьи) ч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519280"/>
          </a:xfrm>
          <a:prstGeom prst="rect">
            <a:avLst/>
          </a:prstGeom>
          <a:solidFill>
            <a:srgbClr val="cca5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санкции указывается вид и размер наказания за совершение конкретного преступ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Санкции б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относительно-определенными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указывается нижний и верхний предел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альтернативным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содержит выбор из различных видов наказ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К нос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территориальный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все лица, совершившие преступления на территории России, подлежат ответственности по законам РФ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гражданский характер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граждане РФ вне зависимости от места совершения преступления подлежат ответственности по российским зако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333360"/>
            <a:ext cx="4969080" cy="3213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     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Выделя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четыре вида диспозиции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простая (называется преступление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не раскрывая его признаков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описательная (определяются существ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признаки: кража, например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это тайное похищение чужого имущества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ссылочная (отсылка к другой статье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бланкетная (не определяются все призна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остава преступления, что  треб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обращения к другим нормам или отраслям прав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strafrecht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719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09" name="Picture 9" descr="beccaria"/>
          <p:cNvPicPr/>
          <p:nvPr/>
        </p:nvPicPr>
        <p:blipFill>
          <a:blip r:embed="rId2"/>
          <a:stretch/>
        </p:blipFill>
        <p:spPr>
          <a:xfrm>
            <a:off x="5364000" y="1700280"/>
            <a:ext cx="2953080" cy="2332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8:37:27Z</dcterms:created>
  <dc:creator>www.PHILka.RU</dc:creator>
  <dc:description/>
  <dc:language>en-US</dc:language>
  <cp:lastModifiedBy>Ведмедовская_Т</cp:lastModifiedBy>
  <dcterms:modified xsi:type="dcterms:W3CDTF">2018-12-24T15:49:32Z</dcterms:modified>
  <cp:revision>17</cp:revision>
  <dc:subject/>
  <dc:title>Уголовное право</dc:title>
</cp:coreProperties>
</file>